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786960" y="731520"/>
            <a:ext cx="528156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393-72E1-4DD8-9F86-442EE6E3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BA8B-2C00-4711-859C-9FBD4C3D10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86DF-4F23-4ACE-9066-6222D0019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9EC-5879-4D9C-9CBD-D9D48ADB8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1C7-8F2D-40F5-9177-9441A2528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981A-1BA5-4E18-8605-92EE2950D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8883-4B9D-4BD0-BDA9-BA37750A7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D96D-23D2-4D8F-858F-6EE27C397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7B19-9882-4AF8-9075-4E0EF46252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E03D-83F7-42B0-B5FF-7E8FC75CCD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57A0-BFA4-4889-AD25-75548891B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8E7F-F450-4E8B-9FF0-BAC6467F92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60C-5F87-4237-A354-13A1CE0B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2BA-8AE7-4D77-B776-20CDEB4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67B-45AE-45C5-8DDC-534D193A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3B4-C068-4809-8E62-7F7A8860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AA8A-A865-4C90-80AA-6315ED3D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7D95-DB56-4B08-8D0F-BB1F657A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D7EE-13E6-49F4-8027-9129F21F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A48E-E78B-438B-9655-E58FF2D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5724-C3F3-4359-8DC7-EFC19799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A11D-F149-4CF0-B505-F790929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50BB-F043-49BF-89E8-A51D7BC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86F-5AC9-44DC-8C3B-806085A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E09-00CF-41B9-A95E-3AB92A3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C03-C654-4EDA-88FC-9013DBC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E61-508B-406E-9938-50FBE30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7B0-3CF5-4DF6-B1BD-A72BB5E7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6BCD-B694-4B08-AA52-F0FF34F9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6EC-DE82-4138-BC2B-34D1D1E0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C63-AE93-45CE-9742-1ACD077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409-F881-4579-8EB6-FC9F2EF9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849-5035-4416-894E-1C91B9C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A8D-0F0B-4D4D-A30E-1ACA428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728-8775-4950-BA97-DA29D007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C54-71E3-41BD-9A71-3381201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478880" y="0"/>
              <a:ext cx="58334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63241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0BE-7676-4152-9379-1B6B66579A8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hange, Develop and Prog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lcolm Rae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3D5F-2701-4C44-9F70-5ABF7F14D2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478880" y="0"/>
              <a:ext cx="58334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022-7DE5-4081-B25D-5C4652B97D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049-42E8-4E8D-B27E-FD192FA721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09600" y="214200"/>
            <a:ext cx="93582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en things go wrong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 –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erious Incidents – what do we know about them and how can they help to improve pract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day Decembe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 Colin D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 Solutions (UK)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BF4-DA98-44AF-8BF9-FEBD066E9D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504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0B8-3CA9-477E-A4CE-141CF99361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12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efining Serious Incid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42680" y="1641240"/>
            <a:ext cx="8420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dden, unexpected death of a community patient in receipt of services or who has been involved with services within the last six month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atient suicid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xpected death of an inpati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spected suicides of community pati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ious safeguarding allega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y incident that is perceived to have possible media atten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conds from secure un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ious self-har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6CA-5AF7-4DF6-956E-404FB250D9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5A3-14E1-416A-97BC-7186B8DA28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33360" y="3357720"/>
            <a:ext cx="936000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72880" y="189000"/>
            <a:ext cx="943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811-1090-4872-97C2-EEDB58B8CE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2880" y="189000"/>
            <a:ext cx="9288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48A-53A5-44F2-8A1A-8840157ED3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05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3E8-82C6-4C48-B3A8-FD33FD671EB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9288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784-BEAE-41F5-AB54-B750D933C5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44520" y="189000"/>
            <a:ext cx="9361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2A7-71AA-4AB4-BA62-E8521F7EF4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85D-0E8A-4B35-AE24-E1BBEB37B6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880" y="333360"/>
            <a:ext cx="90014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sistent Failings Identified in Investiga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4520" y="1484280"/>
            <a:ext cx="91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application of C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isk assessment and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discharge pla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cord kee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ation and eng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unication – transition po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feguar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response to non engagement or did not attend (DNA’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E06-9C0E-46AD-A75A-01D9C46FF7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Consistent failings 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196640"/>
            <a:ext cx="8420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Poor liaison and engagement of families (ignoring families warnings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Substance misuse / dual diagno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Confidenti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Safety at nigh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Mobile phones/tex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Borderline personality disorder/ social difficulti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Lack or inappropriate use of the Mental Health Ac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3B49-9ABB-4EB8-9C45-60692AD705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Users\user\AppData\Local\Microsoft\Windows\Temporary Internet Files\Content.Outlook\N6AINQ5D\IMG_0082.PNG"/>
          <p:cNvPicPr/>
          <p:nvPr/>
        </p:nvPicPr>
        <p:blipFill>
          <a:blip r:embed="rId1"/>
          <a:stretch/>
        </p:blipFill>
        <p:spPr>
          <a:xfrm>
            <a:off x="237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user\AppData\Local\Microsoft\Windows\Temporary Internet Files\Content.Outlook\N6AINQ5D\IMG_0083.PNG"/>
          <p:cNvPicPr/>
          <p:nvPr/>
        </p:nvPicPr>
        <p:blipFill>
          <a:blip r:embed="rId2"/>
          <a:stretch/>
        </p:blipFill>
        <p:spPr>
          <a:xfrm>
            <a:off x="47419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C23D-BBDA-4E4A-95BB-098691F168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Concerns over Investigation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cessive bureaucracy – reporting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stigation and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panels are establish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they are manag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terms of 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detailed RCA, or links with facts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riable reports, structure, depth, quality, timeliness, docu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ngth of time and costs – including opportunity costs (clinicia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FEE-06D6-4424-9AED-1AD19F61DF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Concerns over investigation Process (cont’d…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484280"/>
            <a:ext cx="90741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ey individuals, agencies not interviewed – family, GP, police, victi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inant focus on practitioner actions or omissions rather than adequacy of systems, process, environment, skill mix, management or leader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adequate analysis and identification of common themes, trends and patter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orporating lessons back into organisation as a wh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semination of lessons lear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action plans are tracked and monito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porate responsibilities and Trust Board quality assu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ame orientation versus not acceptance of poor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222-69AA-4AF5-AA7C-090F62E1EA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pacity &amp; Capability of Investiga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2880" y="1125360"/>
            <a:ext cx="928872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ors qualities of assertiveness, objectivity, empathy, tenacity, and interviewing skills might not be 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y not understand legal process or safeguarding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y not possess report writing and communication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workload demands – no back 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ck of awareness of National guid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mplementing Action Pl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8880" y="1197000"/>
            <a:ext cx="8928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ction Plan arising from the recommendations is often at the lowest level of assu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NHSLA Framework allows for 3 levels of assurance: (1)Policy or Guidance; (2)Audit of implementation; (3)Action based on Audit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C4D-2E5C-4BBB-848F-EAC9FBF389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C71B-BDE2-4C7D-BD46-87195C733A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What is Going Well?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4520" y="1341000"/>
            <a:ext cx="9107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assurance to the publ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standardisation of approach (RC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dependent op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olvement of service users and car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haring of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1B3F-845E-4A31-86E0-262F55F8EB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r Ian Clarke 200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000" y="22856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corporating Lessons back into the organisation as a whole seems the most difficult objective to achiev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63C-6961-4139-910E-869DA6964E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58C7-1E60-4617-914D-A1580E46DE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260280"/>
            <a:ext cx="900108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A Learning Organisation / Cult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88880" y="2060640"/>
            <a:ext cx="360036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 learning organisation is one which relishes curiosity, questions and ideas, which allows space for experiment and for reflection which forgives mistakes, and promotes self confidence.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(Hardy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7" descr="CGA1B"/>
          <p:cNvPicPr/>
          <p:nvPr/>
        </p:nvPicPr>
        <p:blipFill>
          <a:blip r:embed="rId1"/>
          <a:stretch/>
        </p:blipFill>
        <p:spPr>
          <a:xfrm>
            <a:off x="4305240" y="1125360"/>
            <a:ext cx="500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526-B991-40A4-ABCA-C85D7A6250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9C3-9C72-4450-8D56-A953B0C238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Characteristics of a Learning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eaders facilitating the formation of a clear vision for the organisation’s futur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n open culture of trust, with employees able to communicate, experiment and learn without fear of criticism or punish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 strong sense of community and caring in the organis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he structure of the organisation helps not hinders the employees in carrying out the organisation’s busi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494-F344-40BA-A70F-0B4B8B5003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924-12B7-46C2-A432-7C3D3FB040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14580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A Learning Organisation / Culture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ther perceived benefits includ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courages innovation and adapt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ptures the knowledge of individuals and retains it when people lea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ticipates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cilitates continuous learning and a proactive response to the changing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A76-094D-42C1-A2D3-E6ED708E5A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520" y="404640"/>
            <a:ext cx="907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D9B0-624C-4FD0-B935-FD0354AD5B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90520" y="652320"/>
            <a:ext cx="752472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8ECC-1E92-4487-A519-713E4D4C4F6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4298-3A42-47AC-82C3-9C4BF21974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egular briefings / monthly newsletters: short and snappy sent to all clinical leaders and manag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ormation not saturation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patient stories / vignettes to heighten intere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elop a culture of openness, reflection and lear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ccountability, expectation to discuss, share, engage, explain – not just passing on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lution group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74E-2ABE-4E54-A818-19D60F9903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082-FD37-48A8-B83E-8C1FF5EEA3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eedback to service user / carer meeting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ormal feedback to universities and those responsible for internal programme develo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stablish a web site and promote local discussion groups on hot topics emerging from SUI’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lective critical incident email measures – red for alerting to areas of concern, blue for lessons to lear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ext messages to key senior clinical / managerial staff to alert to critical incid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62F-447B-4DA1-B2F9-DFBDC02D7E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777-C413-4BFB-8B2C-897CB557DC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Specific Issues Arising from SUI’s to be discussed at key meetings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4520" y="2276280"/>
            <a:ext cx="91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rust Boar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inical govern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ard meetings – staff and patient / staff foru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fessional group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cute Care Foru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Hand-ov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gning when read arrang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15800" y="1413000"/>
            <a:ext cx="88585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lu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27E-9F69-489B-AD06-F6EFE11FB8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F19F-95DD-4018-A314-38AEEE94E6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inical supervision and reflective practice – group and individu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elop an approach to analysis and learning from near miss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rganise positive practice ev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eer review – structures, purposeful, single issue or bund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enchmark with other Organis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egular review of, and revision of, policy and practice guid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4FF-07BF-45BE-AD26-A3114EEC15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F6F-AE6D-431A-BAEA-3E136543FD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rucial job rotations for lear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rds, crib sheets, screen sav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oint and develop safety champions / enthusias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tensive, comprehensive focus on a small number of issu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video for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case studies, real or fictional, as training, and get a panel to undertake a review to see if their findings match those of the original pan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8F2-1B12-458C-9B72-F76CD53D0B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7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WHO Safer Surgery Checkl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ith the use of the checklist, surgery complications were reduced by more than one-third and deaths reduced by almost half (from 1.5% to 0.8%) in test hospitals compared to control hospital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C780-3DB1-4124-A416-A561E4F33C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 Safer Mental Health Checklist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would we includ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would we complete i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8C09-11D8-4A37-A968-F68C8404A2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9795-0E13-4EF8-80D8-F4AD36F29F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44520" y="333360"/>
            <a:ext cx="9072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A5C6-B978-4FD8-8B55-426C33BC6B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5800" y="404640"/>
            <a:ext cx="9145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B815-61A9-485E-803F-987612B109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60520" y="324000"/>
            <a:ext cx="9072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E03-1247-4085-87FF-C5D9A186B25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929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268B-F644-4095-ADC9-3613CBD00A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5800" y="404640"/>
            <a:ext cx="9074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C382-8E9D-4B8B-9CC8-6E09C20BEE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64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2:40Z</dcterms:created>
  <dc:creator>RICHARD WALDRON</dc:creator>
  <dc:description/>
  <dc:language>en-US</dc:language>
  <cp:lastModifiedBy>Ulla Quayle</cp:lastModifiedBy>
  <dcterms:modified xsi:type="dcterms:W3CDTF">2014-11-28T10:58:06Z</dcterms:modified>
  <cp:revision>1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B8C80810105A8458220B11CC7E339E7</vt:lpwstr>
  </property>
</Properties>
</file>