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907588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786960" y="731520"/>
            <a:ext cx="528156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CCEE-69BF-46CD-8A12-B29DAD058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7868-8A08-4E4A-B454-53775E072A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F270-210F-4EE7-AB0F-B0F2FA6C0E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D4F9-41D4-4C7B-AE11-B3383DADF4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8DCD-14B3-4F89-A9EA-1218958790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B5A1-7031-48AE-A6FD-EB9B5FD98C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183D-CA59-4DA9-89C8-DD0CCD17AA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AB9B-5FC1-4FD0-A195-355D23FD7E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2953-C4B1-4B57-9E4C-057A04D8F4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B3D7-AA82-451A-B524-F7D57DBDC2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35E7-1FD4-456A-B772-8A7E95C82A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787320" y="731880"/>
            <a:ext cx="5281560" cy="36558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23AF-AB7F-489B-85C8-1257EE9047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46E-22C1-4818-9496-6213F198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8B1-B766-4090-A031-EA4125DA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C74-8D0D-4144-87AE-3789B603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3B1-41C4-452E-ACA3-458375A8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6345-9867-4E85-B36A-8DFD0C41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1D20-1EC2-437A-B114-58B0BE94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B2E3-6185-4F68-9022-8DEDD7EC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8B5A-9A31-4CF9-A6D0-BEE50639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B3EE-BA6A-4377-90F3-E177C7B0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D91F-B963-4905-80CC-6CDF354E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8768-B1E7-4E8C-B32C-CC2CCF9D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ADC-6B75-4697-A6BE-20656A4E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780B-C03C-4E0C-BC8A-1F615278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D9CE-F0FC-40C4-954F-7FFC0CEB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93C9-C11F-4201-A21D-B8E2596B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3B02-319F-473E-9D3A-6547D494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64124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67920"/>
            <a:ext cx="27111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F399-32EE-4180-8B00-013F06B0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708-9DC6-47E3-8929-77238B8F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591-1078-4BD4-BADF-74BD1A77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742-B7BB-4648-A7BB-9679D9AC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615-C872-4FF4-B10D-79D9612F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5AA-3059-4452-BBFE-34D21F0A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6792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ED6-EF9D-4647-A622-ED7FCAB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641240"/>
            <a:ext cx="410868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67920"/>
            <a:ext cx="84200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CDB-7006-4456-BB60-FA8A4D1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85040" cy="6173640"/>
            <a:chOff x="0" y="0"/>
            <a:chExt cx="918504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64344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478880" y="0"/>
              <a:ext cx="583344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5253840" y="0"/>
              <a:ext cx="39312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-360" y="63241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4AAD-A433-41ED-83F0-232F561C1CD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hange, Develop and Prog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Malcolm Rae 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808C-B72F-4F2A-9D54-3196D5A1C98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85040" cy="6173640"/>
            <a:chOff x="0" y="0"/>
            <a:chExt cx="918504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64344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478880" y="0"/>
              <a:ext cx="583344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5253840" y="0"/>
              <a:ext cx="39312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CF96-C5AD-476C-B31C-983DCED4A8C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D867-8FF4-47FE-8E41-DE739529A1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309600" y="214200"/>
            <a:ext cx="93582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When things go wrong”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 –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erious Incidents – what do we know about them and how can they help to improve practi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iday December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 Colin D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 Execu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ng Solutions (UK) lt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4FD-3ADE-4403-88D7-689526FB63A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28520" y="189000"/>
            <a:ext cx="95043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EC2B-A521-4834-AC4D-60998AB2DED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95122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Defining Serious Incid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42680" y="1641240"/>
            <a:ext cx="842004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dden, unexpected death of a community patient in receipt of services or who has been involved with services within the last six month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patient suicid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xpected death of an inpati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spected suicides of community patien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rious safeguarding allegati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y incident that is perceived to have possible media atten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conds from secure un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rious self-har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9177-DF04-46E5-A905-7257C08AE2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7B91-66AF-461D-8C16-C252A889E8E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33360" y="3357720"/>
            <a:ext cx="9360000" cy="309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272880" y="189000"/>
            <a:ext cx="943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C41A-A7AF-4098-8ADD-FA71123DAD0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72880" y="189000"/>
            <a:ext cx="92887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601E-95BD-4900-9D5E-47AB8F23315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9505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64A4-E158-4CE5-B38C-DB100BB32E6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9288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430C-8682-4224-A98E-A15E08B32E5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44520" y="189000"/>
            <a:ext cx="9361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C609-9D9F-4A3C-A579-38E14A3E426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B58A-C507-4CFB-A2DF-219D073B066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880" y="333360"/>
            <a:ext cx="90014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sistent Failings Identified in Investiga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4520" y="1484280"/>
            <a:ext cx="91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adequate application of CP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isk assessment and man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adequate discharge plan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cord keep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servation and engag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unication – transition po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afeguar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adequate response to non engagement or did not attend (DNA’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34C6-2314-4288-8D7B-29D895C871E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Consistent failings  2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2680" y="1196640"/>
            <a:ext cx="8420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Poor liaison and engagement of families (ignoring families warnings)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Substance misuse / dual diagnosi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Confidentialit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Safety at nigh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Mobile phones/tex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Borderline personality disorder/ social difficulti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Lack or inappropriate use of the Mental Health Ac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spcAft>
                <a:spcPts val="5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2EA2-FBD5-4A5F-A756-A7B1F618849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Users\user\AppData\Local\Microsoft\Windows\Temporary Internet Files\Content.Outlook\N6AINQ5D\IMG_0082.PNG"/>
          <p:cNvPicPr/>
          <p:nvPr/>
        </p:nvPicPr>
        <p:blipFill>
          <a:blip r:embed="rId1"/>
          <a:stretch/>
        </p:blipFill>
        <p:spPr>
          <a:xfrm>
            <a:off x="237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user\AppData\Local\Microsoft\Windows\Temporary Internet Files\Content.Outlook\N6AINQ5D\IMG_0083.PNG"/>
          <p:cNvPicPr/>
          <p:nvPr/>
        </p:nvPicPr>
        <p:blipFill>
          <a:blip r:embed="rId2"/>
          <a:stretch/>
        </p:blipFill>
        <p:spPr>
          <a:xfrm>
            <a:off x="47419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3289-6F72-420E-8F02-368A80A946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Concerns over Investigation Proc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cessive bureaucracy – reporting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stigation and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w panels are establish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w they are managed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 terms of 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 detailed RCA, or links with facts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clusions and recommend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riable reports, structure, depth, quality, timeliness, docu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ngth of time and costs – including opportunity costs (clinician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C3CA-3279-4D31-A2C4-6ED0460065C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Concerns over investigation Process (cont’d…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5800" y="1484280"/>
            <a:ext cx="90741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ey individuals, agencies not interviewed – family, GP, police, victi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inant focus on practitioner actions or omissions rather than adequacy of systems, process, environment, skill mix, management or leadersh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adequate analysis and identification of common themes, trends and patter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orporating lessons back into organisation as a who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semination of lessons lear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action plans are tracked and monito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porate responsibilities and Trust Board quality assur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ame orientation versus not acceptance of poor 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6D0C-71B7-4DB3-8248-E21552586D5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apacity &amp; Capability of Investigato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2880" y="1125360"/>
            <a:ext cx="928872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3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igators qualities of assertiveness, objectivity, empathy, tenacity, and interviewing skills might not be pres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y not understand legal process or safeguarding iss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y not possess report writing and communication ski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gnificant workload demands – no back f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ck of awareness of National guid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Implementing Action Pl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88880" y="1197000"/>
            <a:ext cx="89280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Action Plan arising from the recommendations is often at the lowest level of assuran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NHSLA Framework allows for 3 levels of assurance: (1)Policy or Guidance; (2)Audit of implementation; (3)Action based on Audit findi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961C-A2C4-4D67-93D7-078744B2E1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8A64-661B-41C3-AF47-D1ED8F574FB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What is Going Well?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4520" y="1341000"/>
            <a:ext cx="91072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assurance to the publ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ome standardisation of approach (RC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dependent opin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olvement of service users and car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spcAft>
                <a:spcPts val="52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haring of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0A8E-8714-43AA-B004-4B4B8FE7DBB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9577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53800"/>
            <a:ext cx="891540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Dr Ian Clarke 2008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95000" y="22856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corporating Lessons back into the organisation as a whole seems the most difficult objective to achieve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7E1D-4EA0-4DBE-9C64-923306F4FB7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28FB-A9D6-4475-AEFB-DDC7C3AAAC5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260280"/>
            <a:ext cx="900108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A Learning Organisation / Cultur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88880" y="2060640"/>
            <a:ext cx="360036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 learning organisation is one which relishes curiosity, questions and ideas, which allows space for experiment and for reflection which forgives mistakes, and promotes self confidence.’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(Hardy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7" descr="CGA1B"/>
          <p:cNvPicPr/>
          <p:nvPr/>
        </p:nvPicPr>
        <p:blipFill>
          <a:blip r:embed="rId1"/>
          <a:stretch/>
        </p:blipFill>
        <p:spPr>
          <a:xfrm>
            <a:off x="4305240" y="1125360"/>
            <a:ext cx="5002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08AE-423B-42C9-A1D9-A42BA788F8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6F12-0472-4BF2-8769-ACFC120CBAC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Characteristics of a Learning Organis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925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Leaders facilitating the formation of a clear vision for the organisation’s future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925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n open culture of trust, with employees able to communicate, experiment and learn without fear of criticism or punish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925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 strong sense of community and caring in the organis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925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he structure of the organisation helps not hinders the employees in carrying out the organisation’s busine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3D46-BEA1-4277-A2B3-1C635294AE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88F6-0180-453E-B1FC-7EEB3F6D9A8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14580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A Learning Organisation / Culture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(cont’d…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ther perceived benefits include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courages innovation and adapt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ptures the knowledge of individuals and retains it when people lea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ticipates cha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acilitates continuous learning and a proactive response to the changing enviro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9BA8-D451-431E-9709-B97189492F0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4520" y="404640"/>
            <a:ext cx="9072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8E69-7AD8-4CED-9310-49B899201D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190520" y="652320"/>
            <a:ext cx="752472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6021-FF81-4443-9F52-BE411613052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BC4B-BD32-4E5C-A22C-9F0E31B68D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Ideas for Dissemination, Learning &amp; Implement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Regular briefings / monthly newsletters: short and snappy sent to all clinical leaders and manag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ormation not saturation’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se patient stories / vignettes to heighten interes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velop a culture of openness, reflection and learn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ccountability, expectation to discuss, share, engage, explain – not just passing on inform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lution group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927-DA86-4325-A0A2-8B603E5B5F7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3E00-EA4F-45FE-8F5C-7C69420C60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Ideas for Dissemination, Learning &amp; Implementation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(cont’d…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eedback to service user / carer meeting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ormal feedback to universities and those responsible for internal programme develop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stablish a web site and promote local discussion groups on hot topics emerging from SUI’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elective critical incident email measures – red for alerting to areas of concern, blue for lessons to lear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ext messages to key senior clinical / managerial staff to alert to critical incid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57F4-FDE4-4118-8632-B0E98F0B003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783C-F19D-4044-8F77-FBCFBD6A1E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Specific Issues Arising from SUI’s to be discussed at key meetings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4520" y="2276280"/>
            <a:ext cx="91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rust Boar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linical governa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Ward meetings – staff and patient / staff foru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ofessional group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cute Care Foru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Hand-ov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374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igning when read arrang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15800" y="1413000"/>
            <a:ext cx="885852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Inclu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50E6-575C-418A-9EDB-6CC23F232BB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9048-47F9-48B8-8F9C-5A6E11B1923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Ideas for Dissemination, Learning &amp; Implementation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(cont’d…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linical supervision and reflective practice – group and individua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velop an approach to analysis and learning from near miss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rganise positive practice eve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eer review – structures, purposeful, single issue or bund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enchmark with other Organis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Regular review of, and revision of, policy and practice guida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6F81-DF3C-4E9C-BE91-CD2F4897DA4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47D1-B598-47D3-A5E0-9C921A2FFB0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5440" y="333360"/>
            <a:ext cx="90010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Arial"/>
              </a:rPr>
              <a:t>Ideas for Dissemination, Learning &amp; Implementation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(cont’d…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4520" y="1916280"/>
            <a:ext cx="9107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rucial job rotations for learn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ards, crib sheets, screen sav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ppoint and develop safety champions / enthusias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tensive, comprehensive focus on a small number of issu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se video for analysi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spcAft>
                <a:spcPts val="414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se case studies, real or fictional, as training, and get a panel to undertake a review to see if their findings match those of the original pan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32D8-6163-4150-BB1F-FF917339891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9577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WHO Safer Surgery Checkl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ith the use of the checklist, surgery complications were reduced by more than one-third and deaths reduced by almost half (from 1.5% to 0.8%) in test hospitals compared to control hospital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E1D5-DF5A-470B-B3CB-C481379856D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 Safer Mental Health Checklist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42680" y="1641240"/>
            <a:ext cx="84200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would we includ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en would we complete i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8FA4-C500-42E9-B3ED-262B4AB345D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CA40-77F2-4A9C-9874-3B9EAD12F9C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44520" y="333360"/>
            <a:ext cx="9072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D8EE-1A99-4AA9-B224-B73CAAFECC9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15800" y="404640"/>
            <a:ext cx="9145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7BDF-41A5-4567-8AA1-591D0BAB235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60520" y="324000"/>
            <a:ext cx="9072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383F-C3A4-436B-BA78-66B089F8D70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60520" y="476280"/>
            <a:ext cx="89294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D54F-29FC-4662-9FC7-46A5F811C38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15800" y="404640"/>
            <a:ext cx="9074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1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3E61-C14F-486B-BF4C-CAEB8BDC08C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28520" y="189000"/>
            <a:ext cx="9648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2:40Z</dcterms:created>
  <dc:creator>RICHARD WALDRON</dc:creator>
  <dc:description/>
  <dc:language>en-US</dc:language>
  <cp:lastModifiedBy>Ulla Quayle</cp:lastModifiedBy>
  <dcterms:modified xsi:type="dcterms:W3CDTF">2014-11-28T10:58:06Z</dcterms:modified>
  <cp:revision>1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B8C80810105A8458220B11CC7E339E7</vt:lpwstr>
  </property>
</Properties>
</file>