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6797520" cy="9874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76">
                <a:moveTo>
                  <a:pt x="4" y="0"/>
                </a:moveTo>
                <a:arcTo wR="4" hR="4" stAng="16200000" swAng="-5400000"/>
                <a:lnTo>
                  <a:pt x="0" y="31372"/>
                </a:lnTo>
                <a:arcTo wR="4" hR="4" stAng="10800000" swAng="-5400000"/>
                <a:lnTo>
                  <a:pt x="21596" y="31376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2"/>
          <p:cNvSpPr/>
          <p:nvPr/>
        </p:nvSpPr>
        <p:spPr>
          <a:xfrm>
            <a:off x="0" y="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3852720" y="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933480" y="740880"/>
            <a:ext cx="492912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9280" rIns="89280" tIns="46440" bIns="46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 Rounded MT Bold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 Rounded MT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3120" cy="44402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3852720" y="9378720"/>
            <a:ext cx="2943360" cy="492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333080"/>
                <a:tab algn="l" pos="10782360"/>
              </a:tabLst>
            </a:pPr>
            <a:fld id="{B17F58D0-A8A7-40EF-AD2C-5578986D176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52720" y="9379080"/>
            <a:ext cx="2943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333080"/>
                <a:tab algn="l" pos="10782360"/>
              </a:tabLst>
            </a:pPr>
            <a:fld id="{D140B0E7-D37B-43C3-A39C-A2CF3B3606F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3480" y="74124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31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52720" y="9379080"/>
            <a:ext cx="2943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333080"/>
                <a:tab algn="l" pos="10782360"/>
              </a:tabLst>
            </a:pPr>
            <a:fld id="{4234A668-FD1A-4612-B785-C1682349CA6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33480" y="74124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31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52720" y="9379080"/>
            <a:ext cx="2943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333080"/>
                <a:tab algn="l" pos="10782360"/>
              </a:tabLst>
            </a:pPr>
            <a:fld id="{D82177F4-A4AD-4A54-BB57-4345A85D8FD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33480" y="74124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31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52720" y="9379080"/>
            <a:ext cx="2943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333080"/>
                <a:tab algn="l" pos="10782360"/>
              </a:tabLst>
            </a:pPr>
            <a:fld id="{78442A13-6385-4592-A8E2-8B3857241E8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52720" y="9379080"/>
            <a:ext cx="2943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333080"/>
                <a:tab algn="l" pos="10782360"/>
              </a:tabLst>
            </a:pPr>
            <a:fld id="{B89790C0-B998-4825-A153-20A5B92335B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52720" y="9379080"/>
            <a:ext cx="2943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333080"/>
                <a:tab algn="l" pos="10782360"/>
              </a:tabLst>
            </a:pPr>
            <a:fld id="{0954391E-4D77-40BC-80CE-2A9B542DA49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52720" y="9379080"/>
            <a:ext cx="2943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333080"/>
                <a:tab algn="l" pos="10782360"/>
              </a:tabLst>
            </a:pPr>
            <a:fld id="{C396C7CC-F3CF-4789-B267-4AA9701AACD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52720" y="9379080"/>
            <a:ext cx="2943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333080"/>
                <a:tab algn="l" pos="10782360"/>
              </a:tabLst>
            </a:pPr>
            <a:fld id="{5D614300-4239-4360-83C6-84CADE678B7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33480" y="74124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31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52720" y="9379080"/>
            <a:ext cx="2943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333080"/>
                <a:tab algn="l" pos="10782360"/>
              </a:tabLst>
            </a:pPr>
            <a:fld id="{8E668E42-CE8F-473E-9FBA-34923AB860E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33480" y="74124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31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52720" y="9379080"/>
            <a:ext cx="2943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333080"/>
                <a:tab algn="l" pos="10782360"/>
              </a:tabLst>
            </a:pPr>
            <a:fld id="{89BA41CC-601C-4601-A247-A733D485F83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33480" y="74124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31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52720" y="9379080"/>
            <a:ext cx="2943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333080"/>
                <a:tab algn="l" pos="10782360"/>
              </a:tabLst>
            </a:pPr>
            <a:fld id="{CA6BBE15-88A0-4C64-8DAE-4CA4DDD2D91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33480" y="74124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31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52720" y="9379080"/>
            <a:ext cx="2943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333080"/>
                <a:tab algn="l" pos="10782360"/>
              </a:tabLst>
            </a:pPr>
            <a:fld id="{D7022942-CE9A-4111-A16C-8129F03E46E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25A1A-2E9A-4BDE-9963-91472B94BA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3300"/>
              </a:solidFill>
              <a:latin typeface="Arial Rounded MT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0DB40-1E65-4369-947E-C310E2D2FF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3300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03080-F7E5-4B19-B439-BF258787B8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3300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FD6E3-347D-444A-8650-930AFED2F0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3300"/>
              </a:solidFill>
              <a:latin typeface="Arial Rounded M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FC1AC-CEDA-456B-960D-A1673FFF0D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3300"/>
              </a:solidFill>
              <a:latin typeface="Arial Rounded MT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88269-5B2A-439A-B9DF-2AEBA6DD7E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3300"/>
              </a:solidFill>
              <a:latin typeface="Arial Rounded MT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6909B-9C69-47DB-9626-A45E9A86C5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33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FE83D-88C3-4A16-ABE5-7AA1DB9FC7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DD2F7-2D1F-4809-B9F3-B53662469C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3300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22A41-9EE7-4DF5-B9C2-D2C23908B5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3300"/>
              </a:solidFill>
              <a:latin typeface="Arial Rounded MT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AAFD5-746A-43EF-9DE2-ABE6B86D34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3300"/>
              </a:solidFill>
              <a:latin typeface="Arial Rounded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79E1F-CFE0-4B5D-92E4-8E2FF36D82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 Rounded MT Bol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6A3DA3-46A6-4149-9945-7AE205C38A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7467480" y="609480"/>
            <a:ext cx="1062000" cy="1067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4400" spc="-1" strike="noStrike">
              <a:solidFill>
                <a:srgbClr val="cc33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202536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c00000"/>
                </a:solidFill>
                <a:latin typeface="Calibri"/>
              </a:rPr>
              <a:t>Development of DoL jurisprudence in NI via Guardianship caselaw</a:t>
            </a:r>
            <a:endParaRPr b="0" lang="en-US" sz="4800" spc="-1" strike="noStrike">
              <a:solidFill>
                <a:srgbClr val="000000"/>
              </a:solidFill>
              <a:latin typeface="Arial Rounded MT Bold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Presentation  to  Joint  MHC/ RQIA Conference     05-12-14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eán Mc Parland:    Law Centre (NI) – Mental Health Legal Unit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4000" spc="-1" strike="noStrike">
                <a:solidFill>
                  <a:srgbClr val="cc3300"/>
                </a:solidFill>
                <a:latin typeface="Calibri"/>
              </a:rPr>
              <a:t>The Future in N. Ireland </a:t>
            </a:r>
            <a:endParaRPr b="0" lang="en-US" sz="4000" spc="-1" strike="noStrike">
              <a:solidFill>
                <a:srgbClr val="cc3300"/>
              </a:solidFill>
              <a:latin typeface="Arial Rounded MT Bold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-32760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 another  guardianship case, our High Court is considering what streamline processes might be necessary to accommodate applications to the Court for DoL declarations.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27600" indent="-32760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t has been influenced in this strategy by Sir James Munby’s decisions in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X &amp; Ors [2014]  EWCOP 25 and 37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27600" indent="-32760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27600" indent="-32760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ental Capacity Bill (NI) – published for consultation May 2014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27600" indent="-32760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uardianship  re-imagined as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Community Residence Requirement –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ill not a DoL 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27600" indent="-32760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27600" indent="-32760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27600" indent="-32760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27600" indent="-32760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4000" spc="-1" strike="noStrike">
                <a:solidFill>
                  <a:srgbClr val="cc3300"/>
                </a:solidFill>
                <a:latin typeface="Calibri"/>
              </a:rPr>
              <a:t>Future cont’d……..</a:t>
            </a:r>
            <a:endParaRPr b="0" lang="en-US" sz="4000" spc="-1" strike="noStrike">
              <a:solidFill>
                <a:srgbClr val="cc3300"/>
              </a:solidFill>
              <a:latin typeface="Arial Rounded MT Bold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f care-plan demands it, a separate DoL intervention will need to be sought.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urrently Bill limits DoL interventions to hospitals and care homes.  But in light of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Cheshire West UKSC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it could be argued that they should be extended to supported living accommodations and other community settings.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judicial oversight will be provided by an expert Review Tribunal. Thus avoiding High Court bottleneck.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This approach was advocated for E&amp;W by Lady Hale, Deputy President UKSC in a speech on 17-10-14.)   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alibri"/>
              </a:rPr>
              <a:t>A statutory definition of deprivation of liberty ?</a:t>
            </a:r>
            <a:endParaRPr b="0" lang="en-US" sz="2800" spc="-1" strike="noStrike">
              <a:solidFill>
                <a:srgbClr val="cc3300"/>
              </a:solidFill>
              <a:latin typeface="Arial Rounded MT Bold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s there an Acid Test?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-34128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e person is under continuous supervision and control and is not free to leave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9680" y="500040"/>
            <a:ext cx="752940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cc3300"/>
                </a:solidFill>
                <a:latin typeface="Calibri"/>
              </a:rPr>
              <a:t>Where it all began…</a:t>
            </a:r>
            <a:endParaRPr b="0" lang="en-US" sz="4000" spc="-1" strike="noStrike">
              <a:solidFill>
                <a:srgbClr val="cc3300"/>
              </a:solidFill>
              <a:latin typeface="Arial Rounded MT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0320" indent="-31032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urnewood [2004] – European Court Human Rights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1032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10320" indent="-31032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“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concrete situation was that the applicant was under continuous supervision  and control and was not free to leave” para 91 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1032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10320" indent="-31032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healthcare professionals “exercised complete and effective control over his care and movements” para 91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1032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10320" indent="-31032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B developed DoL safeguards, culminating in new statutory Schedule 1A of Mental Capacity Act being added in 2007. 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1032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1032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1032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9680" y="500040"/>
            <a:ext cx="752940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cc3300"/>
                </a:solidFill>
                <a:latin typeface="Calibri"/>
              </a:rPr>
              <a:t>Response in N. Ireland</a:t>
            </a:r>
            <a:endParaRPr b="0" lang="en-US" sz="3600" spc="-1" strike="noStrike">
              <a:solidFill>
                <a:srgbClr val="cc3300"/>
              </a:solidFill>
              <a:latin typeface="Arial Rounded MT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 NI the DHSSPS issued interim guidance in October 2010.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SC/MHDP – MHU 1/10 - revised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t is 9 pages long (including  a 3 page annex which summarises Bournewood)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nlawful to have care-plan amounting to DoL without prior authority of High Court. (para. 19) 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ever, para. 25 states “ reception into guardianship might be appropriate in some cases. “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f it didn’t already exist, a link was created between guardianship and deprivation of liberty.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9680" y="500040"/>
            <a:ext cx="752940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Calibri"/>
              </a:rPr>
              <a:t>Power to require the patient to reside –</a:t>
            </a:r>
            <a:br>
              <a:rPr sz="3200"/>
            </a:br>
            <a:r>
              <a:rPr b="1" lang="en-GB" sz="3200" spc="-1" strike="noStrike">
                <a:solidFill>
                  <a:srgbClr val="cc3300"/>
                </a:solidFill>
                <a:latin typeface="Calibri"/>
              </a:rPr>
              <a:t>Article 22(1)(a) Mental Health (NI) Order 1986</a:t>
            </a:r>
            <a:endParaRPr b="0" lang="en-US" sz="3200" spc="-1" strike="noStrike">
              <a:solidFill>
                <a:srgbClr val="cc3300"/>
              </a:solidFill>
              <a:latin typeface="Arial Rounded MT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303480" indent="-3034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necdotal evidence that it gave rise to quite a few disputes.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034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03480" indent="-3034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concept of DoL is entangled with the concept behind this power in particular.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034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03480" indent="-3034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number of new Guardianship applications in E&amp;W fell by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22%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 the year 2009/10 – 2010/11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034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03480" indent="-3034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NHS Information Centre noted the correlation with the introduction of the Supervised Community Treatment and DOLs regimes in Nov. ‘08 and April ’09 respectively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034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034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9680" y="500040"/>
            <a:ext cx="752940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cc3300"/>
                </a:solidFill>
                <a:latin typeface="Calibri"/>
              </a:rPr>
              <a:t>JR 50 case [2011] NIQB 43</a:t>
            </a:r>
            <a:endParaRPr b="0" lang="en-US" sz="4000" spc="-1" strike="noStrike">
              <a:solidFill>
                <a:srgbClr val="cc3300"/>
              </a:solidFill>
              <a:latin typeface="Arial Rounded MT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293400" indent="-29340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et in train a series of Guardianship cases in which the development of DoL jurisprudence  in England/ Wales has been a factor.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293400" indent="-29340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JR 50 judgment handed down 12/5/11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2934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293400" indent="-29340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 was not able to leave unsupervised. Was this a DoL, and was it lawful (ref Art 29(2) MHO)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2934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293400" indent="-29340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Judge held he did not need to rule on the legality of any aspect of Guardianship powers.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2934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293400" indent="-29340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e found that it was entirely misconceived in the first place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2934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2934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cc3300"/>
              </a:solidFill>
              <a:latin typeface="Arial Rounded MT Bold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am entirely satisfied that whatever else guardianship may or may not permit, it certainly does not permit one party to a dispute about the management of a vulnerable person to assert a borrowed primacy over any other party’s legitimate but conflicting interest. The idea that guardianship might be used in such a way offends fundamental principles of law and common sense… “ [paragraph 19 Mr Justice Treacy]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Calibri"/>
              </a:rPr>
              <a:t>‘</a:t>
            </a:r>
            <a:r>
              <a:rPr b="0" lang="en-GB" sz="3200" spc="-1" strike="noStrike">
                <a:solidFill>
                  <a:srgbClr val="cc3300"/>
                </a:solidFill>
                <a:latin typeface="Calibri"/>
              </a:rPr>
              <a:t>Best Interest’ declaration in High Court</a:t>
            </a:r>
            <a:endParaRPr b="0" lang="en-US" sz="3200" spc="-1" strike="noStrike">
              <a:solidFill>
                <a:srgbClr val="cc3300"/>
              </a:solidFill>
              <a:latin typeface="Arial Rounded MT Bold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ere there is an entrenched dispute between parties about the management of a vulnerable person, and where this dispute cannot be resolved by appropriate information sharing and genuine participative decision making, or if necessary by mediation,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then the matter should be referred to the court for its guidanc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. Such disputes should certainly not be decided by one of the parties to the conflict. “ [paragraph 20]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4000" spc="-1" strike="noStrike">
                <a:solidFill>
                  <a:srgbClr val="cc3300"/>
                </a:solidFill>
                <a:latin typeface="Calibri"/>
              </a:rPr>
              <a:t>JMCA case [2013] NIQB 77 </a:t>
            </a:r>
            <a:endParaRPr b="0" lang="en-US" sz="4000" spc="-1" strike="noStrike">
              <a:solidFill>
                <a:srgbClr val="cc3300"/>
              </a:solidFill>
              <a:latin typeface="Arial Rounded MT Bold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 was subject to a Guardianship order.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 could not leave residence unless under supervision. 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rust  unsuccessfully challenged his capacity to litigate.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Judge held that care-plan did NOT amount to a DoL.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e followed the EW Court Appeal  case of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Cheshire West.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4000" spc="-1" strike="noStrike">
                <a:solidFill>
                  <a:srgbClr val="cc3300"/>
                </a:solidFill>
                <a:latin typeface="Calibri"/>
              </a:rPr>
              <a:t>JMCA case [2014] NICA 37 </a:t>
            </a:r>
            <a:endParaRPr b="0" lang="en-US" sz="4000" spc="-1" strike="noStrike">
              <a:solidFill>
                <a:srgbClr val="cc3300"/>
              </a:solidFill>
              <a:latin typeface="Arial Rounded MT Bold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7080" indent="-3070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 appealed to the Court of Appeal NI.  Case was postponed pending UKSC decision in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Cheshire West. 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07080" indent="-3070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07080" indent="-3070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 a short judgment on the 12/5/14 the Lord Chief Justice said that if JR judge had made his decision in light of UKSC decision, he may well have deemed care-plan to have amounted to a DoL.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07080" indent="-3070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07080" indent="-3070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firmed that guardianship does not allow for a DoL.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07080" indent="-3070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07080" indent="-3070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or does it allow Trust to prevent P from leaving residence for incidental social purposes. 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07080" indent="-3070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07080" indent="-3070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07080" indent="-3070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07080" indent="-3070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07080" indent="-3070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t Miskimmon</dc:creator>
  <dc:description/>
  <dc:language>en-US</dc:language>
  <cp:lastModifiedBy>Ulla Quayle</cp:lastModifiedBy>
  <cp:lastPrinted>2014-11-27T12:44:53Z</cp:lastPrinted>
  <dcterms:modified xsi:type="dcterms:W3CDTF">2014-11-28T15:14:17Z</dcterms:modified>
  <cp:revision>7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BB8C80810105A8458220B11CC7E339E7</vt:lpwstr>
  </property>
</Properties>
</file>