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4" y="0"/>
                </a:moveTo>
                <a:arcTo wR="4" hR="4" stAng="16200000" swAng="-5400000"/>
                <a:lnTo>
                  <a:pt x="0" y="31372"/>
                </a:lnTo>
                <a:arcTo wR="4" hR="4" stAng="10800000" swAng="-5400000"/>
                <a:lnTo>
                  <a:pt x="21596" y="3137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5272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3348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52720" y="9378720"/>
            <a:ext cx="294336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366F007D-7D4B-4579-8D82-4C7207EB7F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8A257698-66AE-46AF-AA14-1DDE47A76F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A53B07F9-F793-4A12-B304-9F6457593A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94035F18-2554-4994-9872-2ADD0AC8F2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0D85A90A-FD38-43C5-9406-961BF1DC30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3642E8E1-B8BE-4206-ACC1-3990E91FE2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CF7A6EC3-B3D4-43E7-948E-CF6D28FE85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3E00B916-8858-4F47-B62D-DCECF2DF3E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990CF0DC-3EF5-4CA8-8133-C1275FD6AC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00134A83-EA7E-4A6C-A6AE-50313142F1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88FE7318-5D59-4389-99C2-5C3DF9FF53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89447D2E-ABA4-498C-B056-2C0533ACA6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3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52720" y="9379080"/>
            <a:ext cx="2943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333080"/>
                <a:tab algn="l" pos="10782360"/>
              </a:tabLst>
            </a:pPr>
            <a:fld id="{BA363426-B2B5-4741-B42C-17D2386685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E52F-412D-43D6-AA52-B9E84CD0D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1065-3B31-408A-A59D-11B18FE32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B4C9-F554-4119-828D-36D5ED39F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5F09-FE96-4C0F-B5ED-1C7CF50E7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8A1A-38B8-4477-97DD-5BB868173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41CB-3E4A-409C-B624-21CC7DB3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D08A-5A38-429B-9785-2BBF5C145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A661-1F10-4977-B8B3-10302048C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C70C-9A36-4695-B64C-813C95153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19E4-9754-4D75-9764-43C0465F8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A4FC-FEBA-4859-AABA-FB23D6B70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58D8-954A-4D9D-A39C-8E2E25AB7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866E90-FEDD-4883-BF80-6EE102F35F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200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400" spc="-1" strike="noStrike">
              <a:solidFill>
                <a:srgbClr val="cc33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02536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Development of DoL jurisprudence in NI via Guardianship caselaw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resentation  to  Joint  MHC/ RQIA Conference     05-12-14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án Mc Parland:    Law Centre (NI) – Mental Health Legal Unit</a:t>
            </a: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The Future in N. Ireland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nother  guardianship case, our High Court is considering what streamline processes might be necessary to accommodate applications to the Court for DoL declarations.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s been influenced in this strategy by Sir James Munby’s decisions 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X &amp; Ors [2014]  EWCOP 25 and 37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ntal Capacity Bill (NI) – published for consultation May 2014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ardianship  re-imagined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ommunity Residence Requirement –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ill not a DoL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27600" indent="-3276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Future cont’d……..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care-plan demands it, a separate DoL intervention will need to be sought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rrently Bill limits DoL interventions to hospitals and care homes.  But in light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 UKS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it could be argued that they should be extended to supported living accommodations and other community setting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judicial oversight will be provided by an expert Review Tribunal. Thus avoiding High Court bottleneck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This approach was advocated for E&amp;W by Lady Hale, Deputy President UKSC in a speech on 17-10-14.)  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alibri"/>
              </a:rPr>
              <a:t>A statutory definition of deprivation of liberty ?</a:t>
            </a:r>
            <a:endParaRPr b="0" lang="en-US" sz="28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s there an Acid Test?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person is under continuous supervision and control and is not free to leave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Where it all began…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urnewood [2004] – European Court Human Right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crete situation was that the applicant was under continuous supervision  and control and was not free to leave” para 91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healthcare professionals “exercised complete and effective control over his care and movements” para 9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-31032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B developed DoL safeguards, culminating in new statutory Schedule 1A of Mental Capacity Act being added in 2007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1032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3300"/>
                </a:solidFill>
                <a:latin typeface="Calibri"/>
              </a:rPr>
              <a:t>Response in N. Ireland</a:t>
            </a:r>
            <a:endParaRPr b="0" lang="en-US" sz="36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NI the DHSSPS issued interim guidance in October 2010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SC/MHDP – MHU 1/10 - revised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is 9 pages long (including  a 3 page annex which summarises Bournewood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lawful to have care-plan amounting to DoL without prior authority of High Court. (para. 19)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wever, para. 25 states “ reception into guardianship might be appropriate in some cases. “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it didn’t already exist, a link was created between guardianship and deprivation of liberty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alibri"/>
              </a:rPr>
              <a:t>Power to require the patient to reside –</a:t>
            </a:r>
            <a:br>
              <a:rPr sz="3200"/>
            </a:br>
            <a:r>
              <a:rPr b="1" lang="en-GB" sz="3200" spc="-1" strike="noStrike">
                <a:solidFill>
                  <a:srgbClr val="cc3300"/>
                </a:solidFill>
                <a:latin typeface="Calibri"/>
              </a:rPr>
              <a:t>Article 22(1)(a) Mental Health (NI) Order 1986</a:t>
            </a:r>
            <a:endParaRPr b="0" lang="en-US" sz="32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ecdotal evidence that it gave rise to quite a few dispute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concept of DoL is entangled with the concept behind this power in particula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number of new Guardianship applications in E&amp;W fell by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2%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the year 2009/10 – 2010/1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-3034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NHS Information Centre noted the correlation with the introduction of the Supervised Community Treatment and DOLs regimes in Nov. ‘08 and April ’09 respectively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03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752940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R 50 case [2011] NIQB 43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 in train a series of Guardianship cases in which the development of DoL jurisprudence  in England/ Wales has been a facto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R 50 judgment handed down 12/5/11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was not able to leave unsupervised. Was this a DoL, and was it lawful (ref Art 29(2) MHO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dge held he did not need to rule on the legality of any aspect of Guardianship powers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-29340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 found that it was entirely misconceived in the first plac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2934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m entirely satisfied that whatever else guardianship may or may not permit, it certainly does not permit one party to a dispute about the management of a vulnerable person to assert a borrowed primacy over any other party’s legitimate but conflicting interest. The idea that guardianship might be used in such a way offends fundamental principles of law and common sense… “ [paragraph 19 Mr Justice Treacy]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cc3300"/>
                </a:solidFill>
                <a:latin typeface="Calibri"/>
              </a:rPr>
              <a:t>Best Interest’ declaration in High Court</a:t>
            </a:r>
            <a:endParaRPr b="0" lang="en-US" sz="32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ere there is an entrenched dispute between parties about the management of a vulnerable person, and where this dispute cannot be resolved by appropriate information sharing and genuine participative decision making, or if necessary by mediation,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then the matter should be referred to the court for its guidanc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Such disputes should certainly not be decided by one of the parties to the conflict. “ [paragraph 20]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MCA case [2013] NIQB 77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was subject to a Guardianship order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could not leave residence unless under supervision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ust  unsuccessfully challenged his capacity to litigate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udge held that care-plan did NOT amount to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 followed the EW Court Appeal  case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cc3300"/>
                </a:solidFill>
                <a:latin typeface="Calibri"/>
              </a:rPr>
              <a:t>JMCA case [2014] NICA 37 </a:t>
            </a:r>
            <a:endParaRPr b="0" lang="en-US" sz="4000" spc="-1" strike="noStrike">
              <a:solidFill>
                <a:srgbClr val="cc3300"/>
              </a:solidFill>
              <a:latin typeface="Arial Rounded MT Bol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 appealed to the Court of Appeal NI.  Case was postponed pending UKSC decision 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heshire West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 short judgment on the 12/5/14 the Lord Chief Justice said that if JR judge had made his decision in light of UKSC decision, he may well have deemed care-plan to have amounted to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firmed that guardianship does not allow for a DoL.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r does it allow Trust to prevent P from leaving residence for incidental social purposes.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07080" indent="-307080">
              <a:lnSpc>
                <a:spcPct val="93000"/>
              </a:lnSpc>
              <a:spcBef>
                <a:spcPts val="799"/>
              </a:spcBef>
              <a:buClr>
                <a:srgbClr val="cc3300"/>
              </a:buClr>
              <a:buFont typeface="Arial Rounded MT Bold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Miskimmon</dc:creator>
  <dc:description/>
  <dc:language>en-US</dc:language>
  <cp:lastModifiedBy>Ulla Quayle</cp:lastModifiedBy>
  <cp:lastPrinted>2014-11-27T12:44:53Z</cp:lastPrinted>
  <dcterms:modified xsi:type="dcterms:W3CDTF">2014-11-28T15:14:1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B8C80810105A8458220B11CC7E339E7</vt:lpwstr>
  </property>
</Properties>
</file>